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8.wmf" ContentType="image/x-wmf"/>
  <Override PartName="/ppt/media/image12.jpeg" ContentType="image/jpeg"/>
  <Override PartName="/ppt/media/image7.gif" ContentType="image/gif"/>
  <Override PartName="/ppt/media/image10.jpeg" ContentType="image/jpeg"/>
  <Override PartName="/ppt/media/image9.wmf" ContentType="image/x-wmf"/>
  <Override PartName="/ppt/media/image6.gif" ContentType="image/gif"/>
  <Override PartName="/ppt/media/image5.wmf" ContentType="image/x-wmf"/>
  <Override PartName="/ppt/media/image13.jpeg" ContentType="image/jpeg"/>
  <Override PartName="/ppt/media/image3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5.png" ContentType="image/png"/>
  <Override PartName="/ppt/media/image14.wmf" ContentType="image/x-wmf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005-B3F0-4695-ADC9-D1530AE2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14E-30D8-477B-B8D9-5F004B4D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F3A5-57E2-4F47-A9CB-8F6127AD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E77-E5A1-4291-83C1-20FADB96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127-2868-4910-926D-A78CE9A2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0A9-9951-4F65-BDE0-5CF8C5E9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C6D-D92E-4340-949C-2F6D7255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407-3C27-4034-8EED-61374817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C74-55E2-4C8F-9FA0-7B3E37C9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164-72AC-4CF3-B3F1-05D04391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08A-8851-4484-9958-C045F46E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034-3251-4742-805C-8920400F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1131-22CA-418E-AF2F-AAF62D58E96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26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Banner"/>
              </a:rPr>
              <a:t>Women on the Goldfiel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3645000"/>
            <a:ext cx="410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EMILY V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757800">
            <a:off x="394920" y="3573000"/>
            <a:ext cx="2592360" cy="2397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225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4641840"/>
            <a:ext cx="2664000" cy="2216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149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d mining in 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2409840" cy="1596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732720" y="115920"/>
            <a:ext cx="2276280" cy="1708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227640" y="4437000"/>
            <a:ext cx="2721240" cy="2170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348000" y="1484280"/>
            <a:ext cx="2225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cc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9280" y="443700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732720" y="4508640"/>
            <a:ext cx="1877760" cy="2016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12000" y="393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tural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 rot="757800">
            <a:off x="3131640" y="1988640"/>
            <a:ext cx="25923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692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bliography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052640"/>
            <a:ext cx="828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men on the Australian gold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ife on the gold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ooks about g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ogle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08720" y="2924280"/>
            <a:ext cx="23889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42920" y="11592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052640"/>
            <a:ext cx="7345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What they 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What was it like on the gold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Transpor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Ho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Bibliograp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443640" y="333360"/>
            <a:ext cx="2225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260280"/>
            <a:ext cx="842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1159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118584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620640"/>
            <a:ext cx="8856720" cy="49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a long dress with a high neck, tight waist and a full sk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a cotton petticoat and bloomers undern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striped stock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hard wearing b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a large bonnet to keep of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when the miners worked for long hours their clothes got worn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AU" sz="2400" spc="-1" strike="noStrike">
                <a:solidFill>
                  <a:srgbClr val="660066"/>
                </a:solidFill>
                <a:latin typeface="Arial Black"/>
              </a:rPr>
              <a:t>some people wore boots some wore shoes but most of them couldn’t afford to buy shoes or boots so they had to go bare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84720" y="1916280"/>
            <a:ext cx="230508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26028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was their job on the gold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907920"/>
            <a:ext cx="7848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many of the women cooked, cleaned, washed the clothes and they also did the iro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some women sang and danced on the goldfie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few women were diggers and some were shopkee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few women stayed home with their children while their husbands were at the digg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women made bread, butter, jams, soaps and clothes for their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297560" y="189000"/>
            <a:ext cx="1846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47640" y="189000"/>
            <a:ext cx="54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 did people eat on the gold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557360"/>
            <a:ext cx="72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damper, b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dried meat, m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bread, flour, water, eggs, b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they mostly ate damper, bread &amp; flour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11280" y="4076640"/>
            <a:ext cx="29718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03280" y="1159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 was it like on the gold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1268280"/>
            <a:ext cx="70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765000"/>
            <a:ext cx="8424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many people teased the chinese and the aboriginal because they we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lot of the white people teased and threatened othe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lot of the parents couldn’t afford to buy things for their for their children, only the rich people c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a lot of children on the goldfields got sick because they  weren't wearing proper clot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56000" y="4724280"/>
            <a:ext cx="244764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0000" y="11592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at kind of things did they use to get to the goldfiel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836640"/>
            <a:ext cx="763272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mostly the poor people traveled by walking because they couldn’t afford to buy horses because they were very expens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the rich people could travel by horses and carri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some people came with donkeys and bullocks because they could carry lots of weigh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people from other countries</a:t>
            </a:r>
            <a:r>
              <a:rPr b="0" lang="en-US" sz="23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en-US" sz="2300" spc="-1" strike="noStrike">
                <a:solidFill>
                  <a:srgbClr val="660066"/>
                </a:solidFill>
                <a:latin typeface="Arial Black"/>
              </a:rPr>
              <a:t>came by ships because there was no other way to tra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56000" y="4643280"/>
            <a:ext cx="27352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58920" y="1890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at was it like to live at the goldfiel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836640"/>
            <a:ext cx="7632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usually people used tents and huts covered by b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the mattresses that they used were stuffed with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the miners sat on logs around the camp fire and sang songs because there was no computer or TV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 Black"/>
              </a:rPr>
              <a:t>the chinese slept in tents but they slept faraway from the other cultures because there was a f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92360" y="4653000"/>
            <a:ext cx="1873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66ff"/>
            </a:gs>
            <a:gs pos="100000">
              <a:srgbClr val="ff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87280" y="333360"/>
            <a:ext cx="64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se are some pictures of gold &amp; nug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2043000" cy="2160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56360" y="981000"/>
            <a:ext cx="2662200" cy="2035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50920" y="4581360"/>
            <a:ext cx="2592360" cy="1947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393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elted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227640" y="4365720"/>
            <a:ext cx="2409840" cy="2260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96000" y="4005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eople at the gold r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3348000" y="2133720"/>
            <a:ext cx="2214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07:11:16Z</dcterms:created>
  <dc:creator>ME</dc:creator>
  <dc:description/>
  <dc:language>en-US</dc:language>
  <cp:lastModifiedBy>ME</cp:lastModifiedBy>
  <dcterms:modified xsi:type="dcterms:W3CDTF">2010-10-18T08:29:11Z</dcterms:modified>
  <cp:revision>15</cp:revision>
  <dc:subject/>
  <dc:title>Slide 1</dc:title>
</cp:coreProperties>
</file>